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D6F-0C45-49E0-A4ED-446E5EB9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6E8-0F30-4A23-AE79-3FA65725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F29-444E-4756-8A0D-C63B01C1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A72-ACA3-4399-AFA9-3D3860F6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9A0-9950-43A3-8C6A-B907111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135-A8C3-4D71-8ABA-4812C6F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22A-7BCB-42D1-A188-B2909D89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E23-D6EF-4DFE-8DCA-6FCE262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008-4B3F-4E72-AE8E-C59EA4AC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3E4-BA27-46D1-94E9-D3CF6F4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4BB-4367-4E27-A493-BC143C9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D5F-8343-4274-BF11-E47016F9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5181-3F53-451F-A71A-066FFA252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05320" y="4038120"/>
            <a:ext cx="44193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2"/>
          <a:stretch/>
        </p:blipFill>
        <p:spPr>
          <a:xfrm>
            <a:off x="987480" y="1292400"/>
            <a:ext cx="7016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очка сом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- «Я понял вс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 - «Не совсем усвоил, сомневаюс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– «Не поня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шебные линее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http://www.yamal-obr.ru/content/yamal/pics/gallery/1111.jpg"/>
          <p:cNvPicPr/>
          <p:nvPr/>
        </p:nvPicPr>
        <p:blipFill>
          <a:blip r:embed="rId1"/>
          <a:stretch/>
        </p:blipFill>
        <p:spPr>
          <a:xfrm>
            <a:off x="1143000" y="16765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особы выражения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нешнее выражение уровня самоконтроля и  самооценки  может быть представлено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    - Я это умею и могу двигаться дальше. Я понял материал урока и справился со всеми   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Этот способ деятельности мной еще не освоен, и я пока не могу двигаться дальше. Мне не все понятно, в моей работе есть ошибки, мне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31f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31f20"/>
                </a:solidFill>
                <a:latin typeface="Monotype Corsiva"/>
                <a:ea typeface="Times New Roman"/>
              </a:rPr>
              <a:t>Не могу самостоятельно двигаться дальше. Я не понял материал, не смог выполнить задание, мне срочно требуется помощ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762120" y="2209680"/>
            <a:ext cx="380880" cy="3812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762120" y="3048120"/>
            <a:ext cx="38088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6"/>
          <p:cNvSpPr/>
          <p:nvPr/>
        </p:nvSpPr>
        <p:spPr>
          <a:xfrm>
            <a:off x="1066680" y="3429000"/>
            <a:ext cx="180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62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ая работа ведется с 1-го класса. Использование условных сигналов  способствует созданию психологического комфорта, повышению удовлетворенности ученика от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 2-го класса в обучении используется алгоритм, направленный на развитие умений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не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не нравится оценивать саму себя и исправлять оцен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 за то, чтобы ставить оценки в пятибалльной сис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не нравится, что отметку я ставлю сам и задание выбираю 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не нравится, что нас оценивают в баллах и можно исправить ба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4b5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600200" y="551520"/>
            <a:ext cx="6705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амооценка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— это необходимый компонент развития самосознания, т.е. осознание человеком самого себя, своих физических сил, умственных способностей, поступков, мотивов и целей своего поведения, своего отношения к окружающим и самому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лавный смысл самооценки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ключается в самоконтроле обучающегося, его саморегуляции, самостоятельной экспертизе собственной деятельности и в самостимуляции. Переход школьника к самооценке своих учебных действий непрост и нескор, особенно если у него накоплен опыт проживания в другом режиме, где все оценочные функции находились в руках взрослых людей: родителей, воспитателей, уч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ри уровня самооцен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1-й уровень наиболее высо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н характеризуется реалистичной самооценкой ребенка: преимущественная ориентация при обосновании самооценки на знание своих особенностей; наличие способности к обобщению ситуаций, в которых реализуются оцениваемые качества; глубокое и разностороннее содержание самооценочных суждений и употребление их преимущественно в проблемных форма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2-й уровень – средн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му свойственны непоследовательные проявления реалистичных самооценок; ориентация ребенка при обосновании самооценки, в основном, на мнения окружающих, на анализ конкретных фактов и ситуаций самооценивания, наличие самооценочных суждений самого узкого содержания и их реализация, как в проблематичных, так и в категоричных форм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3-й уровень – низ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т уровень отличают преимущественная неадекватность самооценки ребенка; обоснование ее эмоциональными предпочтениями (захотелось), отсутствие подтверждения самооценки анализом реальных фактов, неглубокое содержание самооценочных суждений и употребление их преимущественно в категоричных 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1828800" y="762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 мнению психологов, самооценка развивается на протяжении все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523880" y="1198800"/>
            <a:ext cx="6705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иболее благоприятным периодом развития самооценки является младший школьный возраст, так как именно в этот период начинается организованное обучение, и от того, как учитель организует это обучение, зависит, будет ли развитие самооценки активным, так как в этом возрасте самооценка ребенка продолжает формироваться, корректироваться и отшлифовываться под влиянием оценки учителя (словесной — похвала, порицание; и знаковой — отмет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676520" y="41148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т самооценки человека зависит характер его общения, отношения с другими людьми, успешность его деятельности, дальнейшее развитие его личности. Адекватная самооценка дает человеку нравственное удовлетво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ути формирования самооценки младши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ающее влияние на формирование самооценки оказывают два фак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тношение окружающих (в младшем школьном возрасте, в частности, семьи и педагог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сознание самим ребёнком особенностей своей деятельности, её ход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оветы педагог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ля формирования адекватной самооценки младшего школьника 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идти путём развития возможностей детей, создания для них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педагогам, и родителям рекомендуется не скупиться на похвалу, проявление эмоциональной поддержки по отношению к де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бота по формированию самооценки должна осуществляться в разные режимные моменты и в разны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рекомендуется задействовать различные источники и мех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учитывать принцип меры и принцип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учать ребёнка способам снятия мышечного и эмоционального напря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водить с детьми релаксацион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то, чем они могут гор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оценить себя положительно (в игре, в исследовании, в бесед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вые подходы к оцениванию учебных  достижений в образовательной систем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едметной сфере это овладение знаниями о способах деятельности и умениями осуществлять деятельность по известным алгоритмам, осуществлять самоконтроль и  самооценку  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учебной деятельности -способность к самостоятельному овладению новыми вид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эмоциональноценностных отношений - способность к осуществлению коммуникации учитель - ученик, ученик - уче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вни успешности в системе самоконтроля и оцени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ксимальный (сверх требований к школьнику), программный, необходи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горитм само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. Понимаю задание и определяю цель его выполнения. Алгоритм понимания за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читаю 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представляю результ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определяю форму выражения результ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составляю план 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. Определяю уровень выполняемого задания в диалоге с учителем: необходимый - соответствие требованиям государственного стандарта, программный - требования программы  «Школа 2100», максимальный - сверх школьных треб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3. Разрабатываю в диалоге с учителем критерии правильности выполнения задания, которые можно оформить в виде оценочной шкалы или таблицы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4. Выполняю задание и получаю результ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5. Сравниваю полученный результат с нормой после выполнения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6. Провожу  самооценку  полученного результата и выражаю ее в форме символов или оценочной шк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7. Сравниваю конечный результат с це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8. Определяю уровень своей успешности и выражаю его в баллах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http://www.yamal-obr.ru/content/yamal/pics/gallery/1110.jpg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Матвей</cp:lastModifiedBy>
  <dcterms:modified xsi:type="dcterms:W3CDTF">2018-03-25T20:42:14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